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1-4 Greeting with Roma-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6C4F-D02B-43A1-9E92-08A84A4E8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　　　             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1-4 Greeting with Roma-j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761-F9E0-4157-A7A1-F5C3ABD7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FB16-6710-4712-8E53-B536037F6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2B6F-B92E-4163-9773-27635FEAD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66C-33F0-48E1-BD79-6C81ED804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6CCC-8CE8-42B0-ACE4-8F70D87E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C26B-8B4A-48F8-BC8C-82B0B6BBD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D533-EA14-4B48-8EC4-0FF4EBAA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9A2D-9A37-49D1-80E0-30AB120A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B1BF-853A-4252-ACD4-9FC63476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0D3B-66C5-488F-935B-ED7D9F86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C5D5-0D5F-4506-A9B2-E41D0E29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BA8-5F3F-4F0D-93F9-E4B37CC1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BD27-C093-44E2-A419-84CFC63290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Greet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7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L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HGP創英角ﾎﾟｯﾌﾟ体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s learn greetings in Japanes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In tun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‘</a:t>
            </a:r>
            <a:r>
              <a:rPr b="0" lang="en-GB" sz="32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Row Row Row Your Boa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4" descr="ium00444"/>
          <p:cNvPicPr/>
          <p:nvPr/>
        </p:nvPicPr>
        <p:blipFill>
          <a:blip r:embed="rId1"/>
          <a:stretch/>
        </p:blipFill>
        <p:spPr>
          <a:xfrm>
            <a:off x="3492360" y="1773360"/>
            <a:ext cx="26798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66120" cy="53420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HAY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Ō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OZAIMAS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533520" y="1101600"/>
            <a:ext cx="8153280" cy="5756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 N NI CHI W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Review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39640" y="1231920"/>
            <a:ext cx="3783240" cy="2670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4932360" y="1268280"/>
            <a:ext cx="3678120" cy="2597400"/>
          </a:xfrm>
          <a:prstGeom prst="rect">
            <a:avLst/>
          </a:prstGeom>
          <a:ln w="0">
            <a:noFill/>
          </a:ln>
        </p:spPr>
      </p:pic>
      <p:grpSp>
        <p:nvGrpSpPr>
          <p:cNvPr id="58" name="グループ化 10"/>
          <p:cNvGrpSpPr/>
          <p:nvPr/>
        </p:nvGrpSpPr>
        <p:grpSpPr>
          <a:xfrm>
            <a:off x="430200" y="4005360"/>
            <a:ext cx="3927600" cy="1487520"/>
            <a:chOff x="430200" y="4005360"/>
            <a:chExt cx="3927600" cy="1487520"/>
          </a:xfrm>
        </p:grpSpPr>
        <p:sp>
          <p:nvSpPr>
            <p:cNvPr id="59" name="角丸四角形吹き出し 5"/>
            <p:cNvSpPr/>
            <p:nvPr/>
          </p:nvSpPr>
          <p:spPr>
            <a:xfrm>
              <a:off x="430200" y="4005360"/>
              <a:ext cx="3927600" cy="1487520"/>
            </a:xfrm>
            <a:prstGeom prst="wedgeRoundRectCallout">
              <a:avLst>
                <a:gd name="adj1" fmla="val -6685"/>
                <a:gd name="adj2" fmla="val -67337"/>
                <a:gd name="adj3" fmla="val 16667"/>
              </a:avLst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テキスト ボックス 8"/>
            <p:cNvSpPr/>
            <p:nvPr/>
          </p:nvSpPr>
          <p:spPr>
            <a:xfrm>
              <a:off x="827640" y="4293000"/>
              <a:ext cx="3313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OHAY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  <a:ea typeface="Times New Roman"/>
                </a:rPr>
                <a:t>Ō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ja-JP" sz="3600" spc="-1" strike="noStrike">
                  <a:solidFill>
                    <a:srgbClr val="000000"/>
                  </a:solidFill>
                  <a:latin typeface="Arial Black"/>
                </a:rPr>
                <a:t>　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GOZAIMAS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グループ化 11"/>
          <p:cNvGrpSpPr/>
          <p:nvPr/>
        </p:nvGrpSpPr>
        <p:grpSpPr>
          <a:xfrm>
            <a:off x="4643280" y="4005360"/>
            <a:ext cx="4392720" cy="1185840"/>
            <a:chOff x="4643280" y="4005360"/>
            <a:chExt cx="4392720" cy="1185840"/>
          </a:xfrm>
        </p:grpSpPr>
        <p:sp>
          <p:nvSpPr>
            <p:cNvPr id="62" name="角丸四角形吹き出し 6"/>
            <p:cNvSpPr/>
            <p:nvPr/>
          </p:nvSpPr>
          <p:spPr>
            <a:xfrm>
              <a:off x="4643280" y="4005360"/>
              <a:ext cx="4392720" cy="1185840"/>
            </a:xfrm>
            <a:prstGeom prst="wedgeRoundRectCallout">
              <a:avLst>
                <a:gd name="adj1" fmla="val -2407"/>
                <a:gd name="adj2" fmla="val -65763"/>
                <a:gd name="adj3" fmla="val 16667"/>
              </a:avLst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テキスト ボックス 9"/>
            <p:cNvSpPr/>
            <p:nvPr/>
          </p:nvSpPr>
          <p:spPr>
            <a:xfrm>
              <a:off x="4787280" y="4293360"/>
              <a:ext cx="42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KO N NI CHI W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7720" y="-36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A RI GA T</a:t>
            </a:r>
            <a:r>
              <a:rPr b="0" lang="en-US" sz="43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Ō</a:t>
            </a: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ja-JP" sz="4300" spc="-1" strike="noStrike">
                <a:solidFill>
                  <a:srgbClr val="000000"/>
                </a:solidFill>
                <a:latin typeface="Arial Black"/>
              </a:rPr>
              <a:t>　</a:t>
            </a:r>
            <a:r>
              <a:rPr b="0" lang="en-GB" sz="43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4300" spc="-1" strike="noStrike">
                <a:solidFill>
                  <a:srgbClr val="000000"/>
                </a:solidFill>
                <a:latin typeface="Arial Black"/>
              </a:rPr>
              <a:t>GO ZA I MA SU)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34" descr="ium00444"/>
          <p:cNvPicPr/>
          <p:nvPr/>
        </p:nvPicPr>
        <p:blipFill>
          <a:blip r:embed="rId1"/>
          <a:stretch/>
        </p:blipFill>
        <p:spPr>
          <a:xfrm>
            <a:off x="900000" y="2060640"/>
            <a:ext cx="5759640" cy="4176720"/>
          </a:xfrm>
          <a:prstGeom prst="rect">
            <a:avLst/>
          </a:prstGeom>
          <a:ln w="0">
            <a:noFill/>
          </a:ln>
        </p:spPr>
      </p:pic>
      <p:sp>
        <p:nvSpPr>
          <p:cNvPr id="66" name="WordArt 35"/>
          <p:cNvSpPr txBox="1"/>
          <p:nvPr/>
        </p:nvSpPr>
        <p:spPr>
          <a:xfrm>
            <a:off x="6227640" y="3141720"/>
            <a:ext cx="1981440" cy="64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entury"/>
              </a:rPr>
              <a:t>Thank you!!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entury"/>
              <a:ea typeface="Century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928800" y="1046160"/>
            <a:ext cx="643248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848360" cy="5540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 Y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Ō 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A 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25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Review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470480" y="1413000"/>
            <a:ext cx="4100400" cy="2894040"/>
          </a:xfrm>
          <a:prstGeom prst="rect">
            <a:avLst/>
          </a:prstGeom>
          <a:ln w="0">
            <a:noFill/>
          </a:ln>
        </p:spPr>
      </p:pic>
      <p:grpSp>
        <p:nvGrpSpPr>
          <p:cNvPr id="72" name="グループ化 12"/>
          <p:cNvGrpSpPr/>
          <p:nvPr/>
        </p:nvGrpSpPr>
        <p:grpSpPr>
          <a:xfrm>
            <a:off x="430200" y="4597560"/>
            <a:ext cx="3927600" cy="1488960"/>
            <a:chOff x="430200" y="4597560"/>
            <a:chExt cx="3927600" cy="1488960"/>
          </a:xfrm>
        </p:grpSpPr>
        <p:sp>
          <p:nvSpPr>
            <p:cNvPr id="73" name="角丸四角形吹き出し 6"/>
            <p:cNvSpPr/>
            <p:nvPr/>
          </p:nvSpPr>
          <p:spPr>
            <a:xfrm>
              <a:off x="430200" y="4597560"/>
              <a:ext cx="3927600" cy="1488960"/>
            </a:xfrm>
            <a:prstGeom prst="wedgeRoundRectCallout">
              <a:avLst>
                <a:gd name="adj1" fmla="val 18495"/>
                <a:gd name="adj2" fmla="val -84481"/>
                <a:gd name="adj3" fmla="val 16667"/>
              </a:avLst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テキスト ボックス 7"/>
            <p:cNvSpPr/>
            <p:nvPr/>
          </p:nvSpPr>
          <p:spPr>
            <a:xfrm>
              <a:off x="430200" y="4885560"/>
              <a:ext cx="3927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A RI GA T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  <a:ea typeface="Times New Roman"/>
                </a:rPr>
                <a:t>Ō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0000"/>
                  </a:solidFill>
                  <a:latin typeface="Arial Black"/>
                </a:rPr>
                <a:t>(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 Black"/>
                </a:rPr>
                <a:t>GO ZA I MA SU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グループ化 13"/>
          <p:cNvGrpSpPr/>
          <p:nvPr/>
        </p:nvGrpSpPr>
        <p:grpSpPr>
          <a:xfrm>
            <a:off x="4643280" y="4597560"/>
            <a:ext cx="3927600" cy="1185840"/>
            <a:chOff x="4643280" y="4597560"/>
            <a:chExt cx="3927600" cy="1185840"/>
          </a:xfrm>
        </p:grpSpPr>
        <p:sp>
          <p:nvSpPr>
            <p:cNvPr id="76" name="角丸四角形吹き出し 9"/>
            <p:cNvSpPr/>
            <p:nvPr/>
          </p:nvSpPr>
          <p:spPr>
            <a:xfrm>
              <a:off x="4643280" y="4597560"/>
              <a:ext cx="3745080" cy="1185840"/>
            </a:xfrm>
            <a:prstGeom prst="wedgeRoundRectCallout">
              <a:avLst>
                <a:gd name="adj1" fmla="val -2407"/>
                <a:gd name="adj2" fmla="val -65763"/>
                <a:gd name="adj3" fmla="val 16667"/>
              </a:avLst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テキスト ボックス 10"/>
            <p:cNvSpPr/>
            <p:nvPr/>
          </p:nvSpPr>
          <p:spPr>
            <a:xfrm>
              <a:off x="4787280" y="4885560"/>
              <a:ext cx="378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SA Y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  <a:ea typeface="Times New Roman"/>
                </a:rPr>
                <a:t>Ō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NA R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グループ化 14"/>
          <p:cNvGrpSpPr/>
          <p:nvPr/>
        </p:nvGrpSpPr>
        <p:grpSpPr>
          <a:xfrm>
            <a:off x="900000" y="1413000"/>
            <a:ext cx="3167280" cy="2612880"/>
            <a:chOff x="900000" y="1413000"/>
            <a:chExt cx="3167280" cy="2612880"/>
          </a:xfrm>
        </p:grpSpPr>
        <p:pic>
          <p:nvPicPr>
            <p:cNvPr id="79" name="Picture 34" descr="ium00444"/>
            <p:cNvPicPr/>
            <p:nvPr/>
          </p:nvPicPr>
          <p:blipFill>
            <a:blip r:embed="rId2"/>
            <a:stretch/>
          </p:blipFill>
          <p:spPr>
            <a:xfrm>
              <a:off x="900000" y="1649520"/>
              <a:ext cx="3167280" cy="23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5" descr=""/>
            <p:cNvPicPr/>
            <p:nvPr/>
          </p:nvPicPr>
          <p:blipFill>
            <a:blip r:embed="rId3"/>
            <a:stretch/>
          </p:blipFill>
          <p:spPr>
            <a:xfrm>
              <a:off x="1211040" y="1413000"/>
              <a:ext cx="2496240" cy="30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Review all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グループ化 6"/>
          <p:cNvGrpSpPr/>
          <p:nvPr/>
        </p:nvGrpSpPr>
        <p:grpSpPr>
          <a:xfrm>
            <a:off x="430200" y="2106720"/>
            <a:ext cx="3952800" cy="1488960"/>
            <a:chOff x="430200" y="2106720"/>
            <a:chExt cx="3952800" cy="1488960"/>
          </a:xfrm>
        </p:grpSpPr>
        <p:sp>
          <p:nvSpPr>
            <p:cNvPr id="83" name="角丸四角形吹き出し 7"/>
            <p:cNvSpPr/>
            <p:nvPr/>
          </p:nvSpPr>
          <p:spPr>
            <a:xfrm>
              <a:off x="430200" y="2106720"/>
              <a:ext cx="3927600" cy="1488960"/>
            </a:xfrm>
            <a:prstGeom prst="wedgeRoundRectCallout">
              <a:avLst>
                <a:gd name="adj1" fmla="val -6685"/>
                <a:gd name="adj2" fmla="val -67337"/>
                <a:gd name="adj3" fmla="val 16667"/>
              </a:avLst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テキスト ボックス 8"/>
            <p:cNvSpPr/>
            <p:nvPr/>
          </p:nvSpPr>
          <p:spPr>
            <a:xfrm>
              <a:off x="455400" y="2394720"/>
              <a:ext cx="3927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O HA Y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  <a:ea typeface="Times New Roman"/>
                </a:rPr>
                <a:t>Ō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ja-JP" sz="3600" spc="-1" strike="noStrike">
                  <a:solidFill>
                    <a:srgbClr val="000000"/>
                  </a:solidFill>
                  <a:latin typeface="Arial Black"/>
                </a:rPr>
                <a:t>　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GO ZA I MA S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グループ化 9"/>
          <p:cNvGrpSpPr/>
          <p:nvPr/>
        </p:nvGrpSpPr>
        <p:grpSpPr>
          <a:xfrm>
            <a:off x="4643280" y="2060640"/>
            <a:ext cx="4392720" cy="1185840"/>
            <a:chOff x="4643280" y="2060640"/>
            <a:chExt cx="4392720" cy="1185840"/>
          </a:xfrm>
        </p:grpSpPr>
        <p:sp>
          <p:nvSpPr>
            <p:cNvPr id="86" name="角丸四角形吹き出し 10"/>
            <p:cNvSpPr/>
            <p:nvPr/>
          </p:nvSpPr>
          <p:spPr>
            <a:xfrm>
              <a:off x="4643280" y="2060640"/>
              <a:ext cx="4392720" cy="1185840"/>
            </a:xfrm>
            <a:prstGeom prst="wedgeRoundRectCallout">
              <a:avLst>
                <a:gd name="adj1" fmla="val -2407"/>
                <a:gd name="adj2" fmla="val -65763"/>
                <a:gd name="adj3" fmla="val 16667"/>
              </a:avLst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テキスト ボックス 11"/>
            <p:cNvSpPr/>
            <p:nvPr/>
          </p:nvSpPr>
          <p:spPr>
            <a:xfrm>
              <a:off x="4787280" y="2348640"/>
              <a:ext cx="424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KO N NI CHI W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テキスト ボックス 12"/>
          <p:cNvSpPr/>
          <p:nvPr/>
        </p:nvSpPr>
        <p:spPr>
          <a:xfrm>
            <a:off x="611280" y="12682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Good morning! (pol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932360" y="126216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Hello, Good afternoon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63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Thank you! (pol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5219640" y="393372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HGP創英角ﾎﾟｯﾌﾟ体"/>
                <a:ea typeface="HGP創英角ﾎﾟｯﾌﾟ体"/>
              </a:rPr>
              <a:t>Good by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グループ化 22"/>
          <p:cNvGrpSpPr/>
          <p:nvPr/>
        </p:nvGrpSpPr>
        <p:grpSpPr>
          <a:xfrm>
            <a:off x="455760" y="4886280"/>
            <a:ext cx="3927240" cy="1487520"/>
            <a:chOff x="455760" y="4886280"/>
            <a:chExt cx="3927240" cy="1487520"/>
          </a:xfrm>
        </p:grpSpPr>
        <p:sp>
          <p:nvSpPr>
            <p:cNvPr id="93" name="角丸四角形吹き出し 17"/>
            <p:cNvSpPr/>
            <p:nvPr/>
          </p:nvSpPr>
          <p:spPr>
            <a:xfrm>
              <a:off x="455760" y="4886280"/>
              <a:ext cx="3927240" cy="1487520"/>
            </a:xfrm>
            <a:prstGeom prst="wedgeRoundRectCallout">
              <a:avLst>
                <a:gd name="adj1" fmla="val -6958"/>
                <a:gd name="adj2" fmla="val -78768"/>
                <a:gd name="adj3" fmla="val 16667"/>
              </a:avLst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テキスト ボックス 18"/>
            <p:cNvSpPr/>
            <p:nvPr/>
          </p:nvSpPr>
          <p:spPr>
            <a:xfrm>
              <a:off x="455760" y="5173920"/>
              <a:ext cx="392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A RI GA T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  <a:ea typeface="Times New Roman"/>
                </a:rPr>
                <a:t>Ō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0" lang="ja-JP" sz="3600" spc="-1" strike="noStrike">
                  <a:solidFill>
                    <a:srgbClr val="000000"/>
                  </a:solidFill>
                  <a:latin typeface="Arial Black"/>
                </a:rPr>
                <a:t>　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GO ZA I MA SU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グループ化 19"/>
          <p:cNvGrpSpPr/>
          <p:nvPr/>
        </p:nvGrpSpPr>
        <p:grpSpPr>
          <a:xfrm>
            <a:off x="4643280" y="4815000"/>
            <a:ext cx="3927600" cy="1185840"/>
            <a:chOff x="4643280" y="4815000"/>
            <a:chExt cx="3927600" cy="1185840"/>
          </a:xfrm>
        </p:grpSpPr>
        <p:sp>
          <p:nvSpPr>
            <p:cNvPr id="96" name="角丸四角形吹き出し 20"/>
            <p:cNvSpPr/>
            <p:nvPr/>
          </p:nvSpPr>
          <p:spPr>
            <a:xfrm>
              <a:off x="4643280" y="4815000"/>
              <a:ext cx="3745080" cy="1185840"/>
            </a:xfrm>
            <a:prstGeom prst="wedgeRoundRectCallout">
              <a:avLst>
                <a:gd name="adj1" fmla="val -2407"/>
                <a:gd name="adj2" fmla="val -65763"/>
                <a:gd name="adj3" fmla="val 16667"/>
              </a:avLst>
            </a:prstGeom>
            <a:noFill/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テキスト ボックス 21"/>
            <p:cNvSpPr/>
            <p:nvPr/>
          </p:nvSpPr>
          <p:spPr>
            <a:xfrm>
              <a:off x="4787280" y="5103000"/>
              <a:ext cx="378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SA Y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  <a:ea typeface="Times New Roman"/>
                </a:rPr>
                <a:t>Ō </a:t>
              </a:r>
              <a:r>
                <a:rPr b="0" lang="en-US" sz="3600" spc="-1" strike="noStrike">
                  <a:solidFill>
                    <a:srgbClr val="000000"/>
                  </a:solidFill>
                  <a:latin typeface="Arial Black"/>
                </a:rPr>
                <a:t>NA RA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16:26:01Z</dcterms:created>
  <dc:creator>h.tanaka</dc:creator>
  <dc:description/>
  <dc:language>en-US</dc:language>
  <cp:lastModifiedBy>Hiroko Tanaka</cp:lastModifiedBy>
  <cp:lastPrinted>2013-01-09T14:39:30Z</cp:lastPrinted>
  <dcterms:modified xsi:type="dcterms:W3CDTF">2014-01-17T10:44:56Z</dcterms:modified>
  <cp:revision>31</cp:revision>
  <dc:subject/>
  <dc:title>Greeting</dc:title>
</cp:coreProperties>
</file>